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CD2-A522-4299-9268-D172C760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BEF-E15A-4EB1-9928-E4E4552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D5C1B-4AA5-4C25-90CD-0FE29863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533E7-E27A-4C55-84F3-37A4F89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DD490-6AF2-4909-B159-B5C750A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8937-E945-49BC-ABD9-D08B021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A77A2-C6D9-4B56-9BAC-8FC5D56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5BA93-2EBB-49D4-BFC1-C848261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B3AB4-F86A-4654-AC6E-C9458D48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0C8E1-C30B-43F4-9B44-CF8D49A2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7452F-6E93-4C6B-ABD9-0E8B9749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6BDE-429E-43F9-8702-70C9BEF0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B10-015F-4DD9-B2D6-D594AF71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22C07-14F0-4250-91EF-7BB5BBAD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41E0B-5F35-4D94-8140-99734237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D5A62-6FAD-42D1-A93C-94BA5403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F8C5A-7C2F-4E4D-A083-96422BFF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DF956-EBDB-4986-9B9E-81DBEFB8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EF18-FBA8-4A70-A8CA-202F4D5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5528-1689-4C0F-AC31-5A81AC8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39921-A2DD-42A1-AA86-EF5A1F4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72602-2B83-48A3-AC58-DBD0D50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62B81-724C-4139-9F0B-12BB558B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019-09D0-4D5A-998A-6ED56711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A49B-71D3-4F40-AD59-7B58547E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67F2-14EA-4A96-9711-1933AAC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FD414-CE62-4BCD-BECD-BCE225F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727CB-FFA4-492B-96DC-396EE3D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AD7B-0BE7-4C69-84DF-CA43B85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3362-2CD4-453D-B609-2CB31B7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E451-E15C-4002-85DF-79DBD3F0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63ACF-276D-4CFF-B1E5-8295866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1062-4C65-49AF-8248-EB69683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FF828-0A0B-4D6B-8DAF-A2EAE7B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AE33-7315-44DA-9795-99A5A25A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E3914-C69D-4AC3-B11C-2059255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3589-B847-48E0-8591-B4CFD58C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F98CB-DB8E-4185-98C2-BC77F588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37D89-2BC5-4997-B230-7D8D650D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10DF0-EE9A-41FF-8922-C69C9189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60C83-E961-4B20-B95D-3C83248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3E6DD-16D7-43CE-92C4-1BDC96A3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2938-9614-469B-97F0-53B9B7AF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42B7F-01ED-488A-85F9-7416EF9C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A08CD-F4C7-49FA-AE05-525931C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E08F-BB8F-4F77-B664-CE36864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C8726-2489-495B-BE17-AF4B5AA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EAA07-71C9-48AE-A8E8-05A4CDC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25D3B-D51B-4FEE-AB0D-0B5CD683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8ADD6-DB0D-4487-B56D-91FF5B9D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8FA97-D96B-4EDA-ABE6-D60BB703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8DF30-0508-44A7-BCA8-F7DB33B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9BABA-7F83-4FDF-BC0B-FD833924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289A8-A944-48E6-8F0A-FD18AE5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CDD29-B628-4CF3-9F80-C4133E7E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53A56-A31F-4D2E-868C-ED26A33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2AE-E25E-4C21-A7BA-518CE57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4452C-23C3-4204-8E2D-968A30A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5EDFD-4B8D-46A0-B9CC-C383EC0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A4594-3FBA-49ED-82CC-BF57C58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B7B13-EFA7-47BE-8258-059B90A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1A2E0-248A-49A4-B39E-8A08442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35831-8239-4094-A76E-593E9334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D1446-D31E-4FFD-952E-23956C0A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DB6A6-2B24-40F0-90A8-2BBDA87A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7BAC1-6918-43A1-8F05-5146220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6F204-8767-4880-BEA8-BF87330C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276-81A4-4A4D-A53E-565699FA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44CE1-9B3E-4F00-852D-E960DFDC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5F5DE-117A-4EAF-936C-4BDDC01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D497D-BE47-470B-8888-C0E5AF8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D4EC9-8598-479B-8BBA-7B58549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FFB8E-23E8-432C-ABBB-38150D4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38B95-0445-4922-A3BD-8F8E9F9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CABA4-79D2-44D9-8F28-7182F94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DE0B7-9A0F-48A2-9CF3-695AA417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9C188-F499-4B38-AB1E-8050FC6E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68B99-DF46-4851-AE83-E1516B70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4E1-8A6B-4C55-9DE2-1997E02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E3DAB-6859-4574-A221-4B903D1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512D3-4522-4061-B2B9-52CC5F6B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E3B12-39AB-4DBF-A4AC-DC5EB98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DA291-0DC0-4C9F-867C-7566E1D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A7041-CBBB-4413-A534-67DDFA8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7FB14-75C0-4836-87A2-906E2AA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53CCC-9CD1-47BA-837A-43466E9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7B6E4-FD3A-4825-9FC5-334C650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72C17-1C00-4C45-8B45-38837E0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6531A-117D-4526-8BB1-DAE17F1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17E3-965C-497B-8FFA-C94FC24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4CDBB-0DAB-4380-8350-74A5F5EB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F667D-0E06-4F31-81E8-DBCCAC58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6A427-7720-4BB5-B8A0-81E0437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D1DEB-4B07-4379-8AD8-BDFD9D6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905D6-DF95-4FF3-B03B-7F5CA7C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69F9E-190D-4CB1-A3A3-5E4823AC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936A5-7778-4828-B5B9-080309B3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F87D3-1D3D-4BAB-AA89-EBBABE0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D035A-7270-43EB-B0A1-AC06BD8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02B06-E0C4-4101-81A6-94E6281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4A3D-9A2D-4005-A329-EA6461D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7D763-2C89-4703-9C1B-93892CF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0237E-C7D9-4274-9545-1B5269F5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385E2-41E6-4739-98B4-16D972D0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4E2BF-529C-4672-8137-BA09D447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A146A-E3AB-4692-88B7-CE682CCF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66AF8-56F6-40BE-B401-A405397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0674D-E67E-4B5A-BB52-B59F9C4E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7B4B8-CD5A-4702-AD39-225A6BD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709F1-B8D1-4F45-A9BD-4CB6696D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1E886-75DE-4F5D-BCF8-7ABEFD7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604-6924-49FE-875A-A75ECDC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1090-54D8-44FB-92FC-7E815F1F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4EAED-8E2A-4C57-8A91-ECA433E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456C5-41D9-4537-8795-012435A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20534-7443-495D-ABF7-2A603DAA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54072-4845-4584-BA2F-5DC25F2F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40AFF-39E5-4B7A-AFB2-86E34A68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AD31B-E312-44D5-A598-C3A418D1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5DCE0-4B09-4CA2-9C19-AA07F0A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1F6F0-DBD8-4088-A4CE-993819F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13160-6147-4D59-8744-1FE8B11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CC5FE-6FA9-4440-B12D-8C321643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45B8-2D73-48D9-9349-92EE5BF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EBD45-0050-4FDA-9159-1AE548C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7FF32-8451-4D0D-AD58-2645F8D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3CFDF-E5AB-4CE6-9240-BCACC12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BBD6F-60B8-4D2F-8CB6-80A9AF6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C1E9C-BAD8-4A35-8C39-FF2188B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36A53-FC9D-42C9-A079-4895C28E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2A9A7-0F32-4CBC-AE17-B3E861F6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B8092-8271-4038-95FB-2BA469CD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A1165-C626-4D57-B975-835624D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17F07-59E8-4C45-9F15-2FDF18E3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AB61-2DA6-428C-ADE9-9C864E4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3E344-4E4F-4F05-97BD-2E9E92F0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EB918-9D4B-4153-B440-3B9677E8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1201D-4C45-47EF-91C0-1584739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6A458-63CB-423B-B5F1-764FEE9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A76BD-BFAD-44D0-9333-E0735DE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A42FB-0721-441E-A3DD-6B9205C9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38D51-2C0C-46C7-9A06-E4FFDCD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B402D-33D7-4737-B309-83922CB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3900B-319D-403D-AE3F-A01A8908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F1727-BA08-4549-B37E-47ECE5A2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504-247C-4042-83DB-E7307C2C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DD658-B157-4C66-ACBB-DB566B2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1F5A9-B2E4-427D-BC90-AC880E7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F3D43-D295-4214-80C8-D8517F63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7C403-4BFC-4A7E-B369-A155768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1067E-6C22-4AC7-86BC-C570614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49F63-9AFA-4615-A8A2-3F9D644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C64B1-118E-45AE-BD86-9993BFF3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70D95-3BBA-4885-AD62-1D0CBCF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A4FAB-6AF7-4F51-80C2-9E7529F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63C75-0E82-4AB7-BED4-10E3F87A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3D7E-3C34-4E6E-947C-BF9149F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66A70-68AC-4FFF-8C7B-45C2BF42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AC4B4-4E99-412D-90C4-F66C3DE0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FE1DC-7D9F-4636-8E37-AEA2560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61C44-CF4A-4B1E-BEBB-BDD40A5D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0DCE31-145B-49FA-8537-F595A29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7BAF7-28E2-4353-A00A-81C44F1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0434F-A52E-4125-812E-F0FC303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FABFB-8A7D-4AE1-AB2E-DA2AF5FF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07082-618C-4D6A-BD44-DFAF9F8D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3470C-8A43-4DFF-A284-530A7F2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DD2E-7EA8-4143-AC08-E969E7EF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CB7BB-2CA6-4ECD-A491-BC670A90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38877-D115-4E7E-8C7B-055548C8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B327D-CD55-4655-8EFD-FC9FE045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CC7B8-297B-4FB2-8799-4120A194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71DBE3-C473-4B1E-B1EC-4FCE81E4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25534-675F-4D4C-AC01-A4569E69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7134A-5971-4876-927D-171B5B4B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F198C-C0FF-43FB-BD3E-9A99B0E6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ABE6AF-3354-4BC9-82B7-DF6032C2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0D903-7B85-4E19-84EF-4BA66F0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9F7E-9147-4B5D-A538-69BDE79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08053-1A8B-4D6C-A6D6-827246B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3DA15-E9F8-4D18-8AA5-5C9E253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6859E-3B90-40C2-B62B-53926FC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BB6C8-DA02-43BE-901F-FB3E6C6D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46A64B-B675-4057-9939-43E53740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3C494-2EDC-40F1-8C7F-F748B17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CE29B6-B3CB-4BA2-ADAD-B287AA2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C7B08-A436-4A71-BD40-EE12909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C7C07-C5FA-4AFB-9D57-5CE4C68A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31AA1D-4F3B-41ED-A15E-1E1567D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BA79-A82A-4438-8DE2-887648C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305B95-DBD2-494A-B52D-8551B10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ECE1A-3978-4A2A-8C63-5E4EABCB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70DA22-7BE4-49FF-9473-26F71AC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47D71-B01A-458C-9B19-4E659B5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D8CCA-D091-4DE7-98AA-9F031476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D544FD-EF2B-4E81-9AA2-BE35945A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7D797-4741-4052-9235-87B1B538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70B8-6138-4BA2-93FB-4F7EE31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BE7E-7411-42E7-B18D-A3B42D8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D7D-1323-4173-AFB8-647A769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7BC5-05A9-41CA-9094-04D92003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E587-5150-47A2-B1FF-738AA7B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84C3-633B-4F98-BE54-FFC6685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8220-4334-472D-823A-E573E7C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CA02-126B-4AC6-B122-DE3C9F6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6193-65CC-41F3-A447-045A7DAC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3EED-74C4-4CFF-85A6-8F8EDA05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6B70-7559-4DFE-8272-C3F19951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3E28-A7E4-4E43-A023-689D4A0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CF78-817E-45E0-BAF8-F1275AE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817-A4E3-46AF-9F93-81E8813D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877D6-2BD1-4894-9D5B-647D557E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1197-41A9-4D55-8DCD-04DA9E4F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8138-B3F3-4B10-BDA3-50A60DE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34B9-302C-42EA-9C44-0148DAD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8D12-D1F3-46D4-846C-6BA6577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E6F2-DF41-43DF-84D5-CB3B7E1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8F3D-4D44-4550-AC36-B630295C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B3FA-3F39-4E94-8B78-CD7E7466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3A9F-C36B-45CA-A87D-EB78C59A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CE33-86BC-4053-958E-B35EB543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141-3443-4975-B4BF-BFCD126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AD69-EFF4-4674-BF0B-DEF9DCA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83B8-8314-4725-B18D-96300DD4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7F48-4BFA-428D-ADFD-CD37020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3C5D-E43D-4E47-9E63-DEA965E2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8502-78CB-4637-B841-929DF6A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AC4CD-314E-4A0D-843F-3987F14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A7B6-2B90-40E7-ABB0-86EC27B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D15E-B023-4A75-BECC-2B7EE16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DB20-9148-4C8D-9445-C690984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B456-BE34-4C41-8849-FA0AF996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283-6C74-4EC5-A1EB-0CC0749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1FBA-9A31-4482-80AE-7521599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E23D-9890-4795-9977-1D3B07D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7A32-C893-4304-916C-349868EA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0355-4D04-4F46-A8EF-D5D254C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4CB5-0B0A-4D2E-A3EC-66D82D8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111E6-8218-4832-8A6B-3530D13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2778-4A31-410A-85BE-BD3893F2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8F6F-032F-4E1B-95F7-2A625F5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8ECA-03FF-454E-89FB-794A3FB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7EB7-96CA-4D51-A34F-981689A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D3B-BEEF-44E9-B1FF-B349992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D1CE-BED5-49F9-86FD-6AE2369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267E-2C25-4675-A824-79292F15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E8B92-5D56-497B-BF40-2ADB1255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E976-DCD4-4380-9FB9-8B08803A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4A94-C84A-4A3B-BE10-17E3C659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1C5C-661A-4A06-AD9E-14D60145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831C-0B53-48C9-A444-006DF3F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5654-836A-42E4-BD23-FE011C5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C48C-3774-4A25-970B-ECD1814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7516-4A47-4E86-ABCE-FC324DE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D8D-55F6-475E-8385-2B38A32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926C-9396-4B14-BF62-B88BCDD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318F8-EEE9-4334-952C-B55C249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4522-6489-43AE-8988-25DFB441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EC7C-3F2B-4A7E-8852-302EC795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C895-CE50-4B01-A31E-7F86099F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5F67D-5704-4280-B987-6B68506E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D439B-4620-4EC1-9213-03FFF26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052FD-67E2-4F38-A290-929E4792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BB98-1E09-4346-B391-A4E51A7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1783-6D19-4B0B-9528-DEDD692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A0C-88EB-4B5E-B2DD-F7AD18C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210D-56D2-4DEC-9380-9B79237A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DDEB-F9CF-4E9C-9CBF-5BB98BA8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4967-B9F8-47BF-BE00-03A51CE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6FB81-0E8B-40FE-8D04-9D027A8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6AE7D-5034-4340-8CE4-3F93D1C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FEAC4-690E-4B2A-83C8-5DC88864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5205-4876-4BA9-BF3A-6EE3E90B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88CE7-E352-4342-8A59-35CAE7A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F44F-4338-4D8E-8D4F-8E77C0F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8141B-0E85-4EFD-B43E-8B4F8151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B44-DEE3-481D-B15F-7E314099DD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21A1-56B6-41C5-ABBA-E074CDEE0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E89C-FCEC-4D01-A2B3-C4F40067D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BF3F-4169-48E7-A5F4-032CA00FB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D8AD-91D2-4762-876B-AEFF99BB5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7540-A0F0-4220-BF57-FD34CE519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9FB-2DB1-4F2E-8109-97CA85627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2A28-B9BD-4AF3-A36D-D1C8567FB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82FA-2963-4DB2-BFB4-9B1DBB30D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7611-ED3E-40D9-8EA0-F0F3D14EA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205E-284B-4CFC-A46C-EF30476CEE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B28-918F-41A7-9D04-ADD4CFC67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3FA1-6F63-415B-8C6A-A5930833F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9AAF-0543-4B8F-A99F-491014CE8D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885-EE8E-464C-957B-0A9A2E4C4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C5FC-4AD9-4760-97A0-0FB2D1D71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1007-19F2-4129-97F0-6CEC81DC0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B92B-547A-4DCD-AA20-07248D488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FB37-0942-4C07-9014-C83351093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CE7-C673-4C69-BE4E-8E2CB13FD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52D-C864-4B28-886C-A77746740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122-1B08-455F-A3FC-5355E34173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1DF4-D399-4C66-9253-7C0AAF497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D22-56E0-4F53-A0BD-111138123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6765-D6E2-4E8B-8F16-D452C2492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CCC4-3F5D-46EA-B5CE-ACDF57C00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2F0-B73C-4BB6-93C1-B34F6012E8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A5DA-30D4-4EF2-8E07-AAB98091C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E9B4-AC38-4D41-9FC1-7E157175B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451-A753-4CA9-B175-99E82593B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FD0-0ECE-4E50-8737-42C9B9F55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80F-DFF6-43AC-A6C7-7FC0FB661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D4D-4F4C-4A04-887C-80E97FDF2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E677-3242-4D21-951B-9F4EEA13B7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8C24-B7D9-4C33-A799-A6E8EBA9A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0525-0FD6-4EE7-BB25-DB4EBA1D6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7069-1811-48EA-8FF0-268ACB20B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36F-6ABE-4E9A-BFFB-E659D5883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9A5-A02A-4CF4-94C2-85FF09006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AA8-99F0-475D-AFEC-44763B715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6984-0B4F-4836-BF08-87ABE09B0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FB9E-F699-4693-A528-4BF9F745A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4360" y="3171960"/>
            <a:ext cx="8624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4160" y="861840"/>
            <a:ext cx="6295680" cy="5134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195640" y="41353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2124000" y="46674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28680" y="1077840"/>
            <a:ext cx="8486640" cy="1743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636560" y="3475080"/>
            <a:ext cx="6382080" cy="230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2284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867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101080" y="14698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317080" y="19303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49236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3564000" y="47242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665964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732720" y="46674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705520" cy="5790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806480" y="6021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093080" y="59929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71680" y="2533680"/>
            <a:ext cx="8001000" cy="17906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5580000" y="3255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3592440" y="3673440"/>
            <a:ext cx="908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23840" y="2252520"/>
            <a:ext cx="7096320" cy="2352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219640" y="3500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04840" y="1071720"/>
            <a:ext cx="8734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201680" y="2550960"/>
            <a:ext cx="2232000" cy="30387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665680" y="2565360"/>
            <a:ext cx="322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451640" y="19303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52320" y="985680"/>
            <a:ext cx="7839360" cy="4886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10969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960800" y="1628640"/>
            <a:ext cx="2924280" cy="4105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048440" y="10969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71520" y="1050840"/>
            <a:ext cx="8400960" cy="5410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556000" y="5589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435640" y="285264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33240" y="1143000"/>
            <a:ext cx="7877520" cy="4572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2560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1219320"/>
            <a:ext cx="8506080" cy="441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00000" y="498492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